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voltage.wav" ContentType="audio/x-wav"/>
  <Override PartName="/ppt/media/image3.jpeg" ContentType="image/jpeg"/>
  <Override PartName="/ppt/media/image31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994E-09F7-44C2-847E-27540F12AE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04B6-6591-4641-A22E-CC125DDFD5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035-28E3-4E8E-8B91-606C99C2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BD7-CA33-41CF-A19E-ED104D43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B22-C9FE-4ABD-B343-455FA6F7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C8E-39E3-41A3-BC90-F6320EDF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EAB5-1157-4340-BD47-B9907CEF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6DB9-FF58-4E35-BD76-F66F56D6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847F-665A-4108-B2A9-8A92C342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F4EF-A701-45F1-85E9-CD203025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1920-262C-4BF2-BEC5-757FF941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65D3-D9C9-4465-8988-7CBE618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2E87-4165-4289-8BDF-7BA83C73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680-78C9-402A-A757-595469C5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D8EC-7BF4-4A7D-9568-C4D38BBF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6E18-6923-4E67-9760-F4C1D30D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3273-3CF8-4414-B00F-334B6BC1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5685-91BC-4435-8283-30B431A9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383C-F901-4243-9674-B9FC0AB2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58C53-C7E5-43AF-AAA1-F80AA49B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BAFBA-BB62-4CF8-8302-97150E98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C7728-EB5B-4EEB-B801-AA74840A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6D83D-79E2-4432-A3AC-244AEE0F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D45AA-E34D-42C1-B976-5A9EDA8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05F-0B53-4FEA-A376-8094EB7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94C48-CD18-41D3-BC50-E2E88457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70F74-3E48-4F1B-BFEF-1E1931E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2BD9B-11AB-49C1-BDE2-B1030DF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86101-4BCD-4804-BC6D-E370E623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138E7-921C-422C-87C8-F820DF42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76AA5-0807-461E-8FCA-94FFB92E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4DAEE-DE40-49AB-824C-9E382819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8DC02-6BED-4CD5-990A-672029CF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D5610-0E8E-45F8-A930-BE1FE1A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BD0CA-CCEE-44BB-96E5-68077205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D3C-900A-45DB-9382-66F69BD5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C8561-C38F-4079-8857-4C5B883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5571C-CBB6-4F5B-BDE1-7C8BAA3E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C6DC3-3184-47E0-A357-4C832BBC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9570A-5085-4D29-A65F-3F35D3B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F329A-9A9C-406A-9FFB-513C5D5E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27609-CD06-4D5B-A6D8-6BA8C01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5B91F-CA1B-4DA2-9D9E-0561BFE6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B1B6D-16E6-4C00-96C4-3935E2F7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4A06E-B134-4D6E-BFB4-947FC0A0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5C614-E04B-4A21-9C04-AF3BF114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D2D-902B-4B0D-A0A6-889EC580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ECAE6-21AF-42BC-A46E-AE00640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07677-E897-4614-92C8-0C847899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7D988-B147-4F5E-95AA-9B68C473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12DE4-6EEB-4A52-BFB4-B930E8A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1ACD7-F560-4CE2-BF18-EFFB4ECC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71708-BE90-4CC7-BCA5-4216416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29D82-E86B-4C82-872E-0CE8A0A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76857-407E-4E41-AD15-B22431DF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FAFE3-5EA3-49FB-AFBB-60D8651B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A26FD-B293-4546-A99A-0050608C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C86-0CB0-4F39-9AF1-4D81B14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8D798-600C-45D5-9A4A-6A162035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F58A1-7C6A-462D-B404-20D0FCE4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BEC8-6520-4CE2-8B47-24854B5D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5B6CA-058B-47E5-9935-EB6AA4D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692D0-5DF5-46A1-96F8-19D9C879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64F7-59F3-4E82-B12B-AB4C215B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ED203-BDC5-4F01-9EA6-EECEC4D9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AD54C-6ECF-4234-8B14-5BC8449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C2E6-125B-49F4-AD91-05BB020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5A95-A9B8-438D-8DAA-3B32341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A8E-10CE-48ED-A796-2327A52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8F978-C2F9-4DAF-BE4F-33E2133D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97FD-4735-424B-AAFA-F312DE68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9370B-B5DA-4FDF-99EF-4DA3E144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5E65E-FA35-4235-8684-01663354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0263F-EF1C-48D8-A6FE-0C60CA73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A46BE-532B-446A-A2ED-DE7D95C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32768-E86C-472B-8C4F-4CB55023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113B6-C23C-41FF-BB7B-E2485D5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0F688-5495-4FCA-A22F-1902A749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5C103-4DBD-480E-BBA4-E9B81F11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5B3-8819-43E1-BA35-76B1431D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E9EE6-A325-4347-8CC6-038323FE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108AF-CD1B-402F-AEAA-42C0C97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7FF0E-CB34-4961-9D1F-A8CAAD0B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303E4-D063-4F91-8D00-0BB8BED7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CC29CB-13E1-4B52-9CB1-D90C860E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C3940-C856-4FC0-8821-F0E31325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6113A-9717-4257-A0A0-CD6A4F5B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364A6-23D8-4AF9-83D9-EDB3BA8B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4B9BC-B837-4EF2-BA7D-E9FDF9F0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04B94-F470-4AB3-B3D1-9DE139FE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511-531C-4673-A940-DA6C3C37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58342-B646-49A7-BE62-2A9BCC86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D13E8-B8E9-4C83-B722-62D7E4F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DF152-117F-45BF-922E-477171BA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57B1A-D6A9-4103-962C-11DE9218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E540B-F352-4284-BC7F-5A7436D7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E6F5F-1F36-435D-A7FD-22E51C91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55B01-2A84-44FA-9226-B67FF317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E73B-1A86-4E02-BD7F-4EF19B57CFC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BFA5-818D-4594-837A-AD44A897160D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87BA-D18F-4E47-8FC6-24C17F11BBDF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C220-8C64-4AEE-917C-D185744B9D9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1E17-9955-425C-A570-031F44E5CFC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6C72-8255-48EA-B392-F3D85643F27A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0FEB-EB3D-4237-A67B-699907E2A2BC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DCF7-2F8E-4423-B354-3CCA0577805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865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ЯВЛЕНИЕ ЭКСТРЕМИЗМА В МОЛОДЕЖНОЙ СРЕДЕ: ФАНАТ, СПОРТИВНЫЙ БОЛЕЛЬЩИК, ЭКСТРЕМИСТ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560" y="3429000"/>
            <a:ext cx="381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Цель проведения – профилактика экстремизма и всех его проявлений в молодежной среде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9" name="Picture 2" descr="C:\Users\Таня\Pictures\a2bbf7e30aad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52720" cy="31640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2857680" y="6021360"/>
            <a:ext cx="50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Классный руководитель 7 класса МБОУ СОШ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Гаджикурбанова Халида Ханмагоме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C:\Users\Таня\Pictures\imagesCAGTAAP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5736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насилия в отношении представителя государственной власти либо на угрозу применения насилия в отношении представителя государственной власти или его близких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нарушение прав и свобод человека и гражданина, причинение  вреда здоровью и имуществу граждан в связи с их убеждениями, расовой или национальной принадлежностью, вероисповеданием, социальной принадлежностью или социальным происхождением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создание и (или) распространение печатных, аудио-аудиовизуальных и иных материалов (произведений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сягательство на жизнь государственного или общественного деятеля, совершенное в целях прекращения его государственной или иной политической деятельности либо из мести за такую деятельность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" descr="C:\Users\Таня\Pictures\imagesCAUHHEKP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57360"/>
            <a:ext cx="9036000" cy="51847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1280" y="1484280"/>
            <a:ext cx="815328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паганда и публичное демонстрирование нацистской  атрибутики или символики либо атрибутики или символики,  сходных с нацистской атрибутикой или символикой до степени  смеш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убличные призывы к осуществлению указанной деятельности, а также публичные призывы и выступления, побуждающие к осуществлению указанной деятельности, обосновывающие либо оправдывающие совершение деяний, указанных в настоящей статье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финансирование указанной деятельности либо иное содействие в планировании, организации, подготовке и совершении указанных действий, в том числе путем предоставления для осуществления указанной деятельности финансовых средств, недвижимости, учебной, полиграфической и материально-технической базы, телефонной, факсимильной и иных видов связи, информационных услуг, иных материально-технических средств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кинхеды, как носители идей национализма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348000" y="1600200"/>
            <a:ext cx="541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инхедами или «скинами» называют участников относительно нового неформального молодежного движения, возникшего в Англии, Европе и Америке во второй половине 20 века. Слово «скинхед» произошло от слияния двух английских слов skin (кожа) и head (голова) и в буквальном переводе означает «кожаная голова»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C:\Users\Таня\Pictures\skinxedy1.jpg"/>
          <p:cNvPicPr/>
          <p:nvPr/>
        </p:nvPicPr>
        <p:blipFill>
          <a:blip r:embed="rId1"/>
          <a:stretch/>
        </p:blipFill>
        <p:spPr>
          <a:xfrm>
            <a:off x="179280" y="1557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Таня\Pictures\untitled1.png"/>
          <p:cNvPicPr/>
          <p:nvPr/>
        </p:nvPicPr>
        <p:blipFill>
          <a:blip r:embed="rId2"/>
          <a:stretch/>
        </p:blipFill>
        <p:spPr>
          <a:xfrm>
            <a:off x="179280" y="4724280"/>
            <a:ext cx="3024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C:\Users\Таня\Pictures\imagesCAVTKVBJ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Основные методы работ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гитация, распространение листовок (обычно с расистскими призывами), различные акты вандализма (рисунки свастики на видных местах, и др.), нападения на иностранцев, лиц кавказской национальности, избиения граждан СНГ, общеуголовные преступления: нанесение изображений экстремистского характера, в том числе, свастики, хулиганство, распитие спиртных напитков, участие в столкновениях с футбольными фанат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тличительные признаки: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599840"/>
            <a:ext cx="5472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ритая голова (или короткая стрижка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муфляжная форма, куртки «бомберы» (черного цвета, внутри оранжевые), толстовки с капюшоном («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Lonsdale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»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ногах - «берцы», «гриндерсы», закатанные джинс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личие татуировок (обычно, свастика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они имеют в данной среде прозвища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C:\Users\Таня\Pictures\22718.jpg"/>
          <p:cNvPicPr/>
          <p:nvPr/>
        </p:nvPicPr>
        <p:blipFill>
          <a:blip r:embed="rId1"/>
          <a:stretch/>
        </p:blipFill>
        <p:spPr>
          <a:xfrm>
            <a:off x="6415200" y="189000"/>
            <a:ext cx="2581200" cy="1800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Таня\Pictures\7863.jpg"/>
          <p:cNvPicPr/>
          <p:nvPr/>
        </p:nvPicPr>
        <p:blipFill>
          <a:blip r:embed="rId2"/>
          <a:stretch/>
        </p:blipFill>
        <p:spPr>
          <a:xfrm>
            <a:off x="6084720" y="458136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C:\Users\Таня\Pictures\im3_5_8_lrg.jpg"/>
          <p:cNvPicPr/>
          <p:nvPr/>
        </p:nvPicPr>
        <p:blipFill>
          <a:blip r:embed="rId3"/>
          <a:stretch/>
        </p:blipFill>
        <p:spPr>
          <a:xfrm>
            <a:off x="6516720" y="2060640"/>
            <a:ext cx="24811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ополагающей идеей для них являетс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8000" y="1599840"/>
            <a:ext cx="82976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неприятие инородцев, доходящее до ненависти. Здесь в полной мере проявляется открытое противостояние лицам иных рас и национальност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насилия, запугивание мирных граждан и даже представителей власти, организация погромов, терактов и убийств – эти действия направлены против всех «чужаков» одновременно Собирательный образ врага для скинов – «бремя белого человека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Picture 2" descr="C:\Users\Таня\Pictures\db0a444d5e8d4b3dc47b89e272af5c86.jpg"/>
          <p:cNvPicPr/>
          <p:nvPr/>
        </p:nvPicPr>
        <p:blipFill>
          <a:blip r:embed="rId1"/>
          <a:stretch/>
        </p:blipFill>
        <p:spPr>
          <a:xfrm>
            <a:off x="2556000" y="4241880"/>
            <a:ext cx="3924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000" y="404280"/>
            <a:ext cx="5111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на территории России действуют свыше 35 крупных скин - группировок, которые отличаются установленными правилами поведения и жесткой дисциплин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овском регионе активно действует 23 наиболее агрессивные группы, общей численностью достигающие более 3000 участнико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кт-Петербурге – около 9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троме группировки носят разрозненный характер, общая численность - около 40 челове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C:\Users\Таня\Pictures\picture.jpg"/>
          <p:cNvPicPr/>
          <p:nvPr/>
        </p:nvPicPr>
        <p:blipFill>
          <a:blip r:embed="rId1"/>
          <a:stretch/>
        </p:blipFill>
        <p:spPr>
          <a:xfrm>
            <a:off x="5796000" y="333360"/>
            <a:ext cx="3108240" cy="2158920"/>
          </a:xfrm>
          <a:prstGeom prst="rect">
            <a:avLst/>
          </a:prstGeom>
          <a:ln w="0">
            <a:noFill/>
          </a:ln>
        </p:spPr>
      </p:pic>
      <p:sp>
        <p:nvSpPr>
          <p:cNvPr id="409" name="TextBox 5"/>
          <p:cNvSpPr/>
          <p:nvPr/>
        </p:nvSpPr>
        <p:spPr>
          <a:xfrm>
            <a:off x="5724360" y="2565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Скинхеды. Факельное шествие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C:\Users\Таня\Pictures\watermark.jpg"/>
          <p:cNvPicPr/>
          <p:nvPr/>
        </p:nvPicPr>
        <p:blipFill>
          <a:blip r:embed="rId2"/>
          <a:stretch/>
        </p:blipFill>
        <p:spPr>
          <a:xfrm>
            <a:off x="5651640" y="3357720"/>
            <a:ext cx="3333600" cy="21430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7"/>
          <p:cNvSpPr/>
          <p:nvPr/>
        </p:nvSpPr>
        <p:spPr>
          <a:xfrm>
            <a:off x="5651640" y="5589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В Костроме скинхеды напали на неформ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На территории РФ действует ряд молодёжных организаций, в отдельных акциях которых усматриваются признаки экстремистской деятельности.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ангард красной молодежи (АКМ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тестное гражданское движение «Оборон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Идущие без Путин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лодежная общественная организация «Пор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есоюзная Молодая Гвардия Большевиков (ВМГБ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КСМ (большевики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олодежный левый фронт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оссийская ассоциация профсоюзных организаций студентов (РАПОС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«Евразийский Союз Молодежи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«Социалистическое сопротивление за рабочий интернационал» (СС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Союз коммунистической молодежи (СКМ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Центр общественных инициатив «УРА!» (Утро-Родина-Атака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оюз молодежи «За Родину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оссийская демократическая партия «Наш выбор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Независимая ассоциация студентов «Я думаю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Молодежное правозащитное движ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75f55"/>
                </a:solidFill>
                <a:latin typeface="Calibri"/>
              </a:rPr>
              <a:t>Праворадикальные (националистические) </a:t>
            </a:r>
            <a:br>
              <a:rPr sz="2900"/>
            </a:br>
            <a:r>
              <a:rPr b="1" lang="ru-RU" sz="2900" spc="-1" strike="noStrike">
                <a:solidFill>
                  <a:srgbClr val="775f55"/>
                </a:solidFill>
                <a:latin typeface="Calibri"/>
              </a:rPr>
              <a:t>молодежные организации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одная национальная партия (НН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циональное единство (Р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ение против нелегальной иммиграции (ДП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авянский сою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одно-державная партия Росси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6" name="Object 7"/>
          <p:cNvGraphicFramePr/>
          <p:nvPr/>
        </p:nvGraphicFramePr>
        <p:xfrm>
          <a:off x="1619280" y="4797360"/>
          <a:ext cx="267660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797360"/>
                    <a:ext cx="2676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17"/>
          <p:cNvGraphicFramePr/>
          <p:nvPr/>
        </p:nvGraphicFramePr>
        <p:xfrm>
          <a:off x="6084720" y="4869000"/>
          <a:ext cx="1857600" cy="18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869000"/>
                    <a:ext cx="18576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0" name="Picture 6" descr="C:\Users\Таня\Pictures\imagesCA0B1TSH.jpg"/>
          <p:cNvPicPr/>
          <p:nvPr/>
        </p:nvPicPr>
        <p:blipFill>
          <a:blip r:embed="rId5"/>
          <a:stretch/>
        </p:blipFill>
        <p:spPr>
          <a:xfrm>
            <a:off x="250920" y="494172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C:\Users\Таня\Pictures\imagesCACDPTAG.jpg"/>
          <p:cNvPicPr/>
          <p:nvPr/>
        </p:nvPicPr>
        <p:blipFill>
          <a:blip r:embed="rId6"/>
          <a:stretch/>
        </p:blipFill>
        <p:spPr>
          <a:xfrm>
            <a:off x="3851280" y="486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7" name="voltage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59280" y="2209320"/>
            <a:ext cx="562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ой признак этих культов – все сатанистские и демонические вероучения считают, что объект их поклонения является в мире основной причиной зла и смерти. Адепты откровенных сатанистских сект поклоняются и служат злу и, что особенно для них характерно, ненавидят православие, негативно относятся ко всем культурообразующим традиционным религия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иверженцы сатанистских и</a:t>
            </a:r>
            <a:br>
              <a:rPr sz="3200"/>
            </a:b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демонических культов.</a:t>
            </a:r>
            <a:br>
              <a:rPr sz="25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24" name="Picture 2" descr="http://ateismy.net/content/images/satanist.jpg"/>
          <p:cNvPicPr/>
          <p:nvPr/>
        </p:nvPicPr>
        <p:blipFill>
          <a:blip r:embed="rId1"/>
          <a:stretch/>
        </p:blipFill>
        <p:spPr>
          <a:xfrm>
            <a:off x="250920" y="1557360"/>
            <a:ext cx="23763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C:\Users\Таня\Pictures\7ce9f237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экстремизм - это приверженность крайним взглядам и мерам.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кты насилия относятся к категории экстремистских, если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) они не только используются в качестве прямого способа достижения политических, идеологических и социальных целей, но и являются инструментом публичности и устрашения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б) они направлены на то, чтобы причинить вред не непосредственному противнику, а другим людя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5003280" y="1600200"/>
            <a:ext cx="3762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ви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ные длинные волосы, большая крашеная чёлка, различного рода металлические украшения, неформальная одежда. Депрессия, самоуничтожение, протест против взрослых. Выражается протест в суицидальном поведении. Авторитет имеют те представители ЭМО, которые имели большее количество попыток суиц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бкультура ЭМ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27" name="Picture 2" descr="C:\Users\Таня\Pictures\0001-001-Emo.jpg"/>
          <p:cNvPicPr/>
          <p:nvPr/>
        </p:nvPicPr>
        <p:blipFill>
          <a:blip r:embed="rId1"/>
          <a:stretch/>
        </p:blipFill>
        <p:spPr>
          <a:xfrm>
            <a:off x="0" y="1628640"/>
            <a:ext cx="5292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Национал-большевистская партия (НБП).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29" name="Picture 1" descr="C:\Users\Таня\Pictures\imagesCA9FWVYS.jpg"/>
          <p:cNvPicPr/>
          <p:nvPr/>
        </p:nvPicPr>
        <p:blipFill>
          <a:blip r:embed="rId1"/>
          <a:stretch/>
        </p:blipFill>
        <p:spPr>
          <a:xfrm>
            <a:off x="468360" y="1773360"/>
            <a:ext cx="2581200" cy="251928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4"/>
          <p:cNvSpPr/>
          <p:nvPr/>
        </p:nvSpPr>
        <p:spPr>
          <a:xfrm>
            <a:off x="3995640" y="1484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личительный знак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ерп и молот в белом круге на красном фон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щность идеологи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«Испепеляющая ненависть к античеловеческой системе троицы: либерализма, демократии, капитализма. Человек восстания, национал-большевик видит свою миссию в разрушении системы до основания. На идеалах духовной мужественности, социальной и национальной справедливости будет построено традиционалистическое, иерархическое общество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е методы действий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пространение листовок, агитация населения, выезды в Москву для участия в массовых акция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Users\Таня\Pictures\imagesCAGSUMAB.jpg"/>
          <p:cNvPicPr/>
          <p:nvPr/>
        </p:nvPicPr>
        <p:blipFill>
          <a:blip r:embed="rId2"/>
          <a:stretch/>
        </p:blipFill>
        <p:spPr>
          <a:xfrm>
            <a:off x="7380360" y="18900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C:\Users\Таня\Pictures\imagesCALL627X.jpg"/>
          <p:cNvPicPr/>
          <p:nvPr/>
        </p:nvPicPr>
        <p:blipFill>
          <a:blip r:embed="rId3"/>
          <a:stretch/>
        </p:blipFill>
        <p:spPr>
          <a:xfrm>
            <a:off x="468360" y="450864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32000" y="228600"/>
            <a:ext cx="743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ВМЕСТЕ ПРОТИВ ЭКСТРЕМИЗМ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4" name="Picture 2" descr="C:\Users\Таня\Pictures\ea8a8d791ced870ab2b952be20148615.jpg"/>
          <p:cNvPicPr/>
          <p:nvPr/>
        </p:nvPicPr>
        <p:blipFill>
          <a:blip r:embed="rId1"/>
          <a:stretch/>
        </p:blipFill>
        <p:spPr>
          <a:xfrm>
            <a:off x="5940360" y="4508640"/>
            <a:ext cx="2764080" cy="207468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4"/>
          <p:cNvSpPr/>
          <p:nvPr/>
        </p:nvSpPr>
        <p:spPr>
          <a:xfrm>
            <a:off x="468360" y="177336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роризм и экстремиз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 молодеж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лодеж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 терроризма и экстремизма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" descr="C:\Users\Таня\Pictures\untitled 2.png"/>
          <p:cNvPicPr/>
          <p:nvPr/>
        </p:nvPicPr>
        <p:blipFill>
          <a:blip r:embed="rId2"/>
          <a:stretch/>
        </p:blipFill>
        <p:spPr>
          <a:xfrm>
            <a:off x="755640" y="4508640"/>
            <a:ext cx="4824360" cy="2089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" descr="C:\Users\Таня\Pictures\%20jlfjym%20wxbpcucrihl_%20zomxpvhk_%20001%20j25bthumbnail.jpg"/>
          <p:cNvPicPr/>
          <p:nvPr/>
        </p:nvPicPr>
        <p:blipFill>
          <a:blip r:embed="rId3"/>
          <a:stretch/>
        </p:blipFill>
        <p:spPr>
          <a:xfrm>
            <a:off x="6227640" y="1628640"/>
            <a:ext cx="2797200" cy="18716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C:\Users\Таня\Pictures\ekstr.jpg"/>
          <p:cNvPicPr/>
          <p:nvPr/>
        </p:nvPicPr>
        <p:blipFill>
          <a:blip r:embed="rId4"/>
          <a:stretch/>
        </p:blipFill>
        <p:spPr>
          <a:xfrm>
            <a:off x="179280" y="189000"/>
            <a:ext cx="10796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scienceport.ru/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www.dissers.ru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bugabooks.com/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newparlament.ru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ru.wikipedia.org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nnov.ruy.ru/news.html?did=171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gisap.eu/ru/node/398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Понимание культуры и традиций другой национальной группы - источник конструктивного межнационального сотрудничества.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целью налаживания отношений между разными этническими и национальными группа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относитесь к чужой культуре с тем же уважением с которым относитесь к собствен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не судите о ценностях, убеждениях и традициях других культу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талкиваясь от собственных це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никогда не исходите из превосходства своей религии над чужой религ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Общаясь с представителями других верований старайтесь понимать и уважать их точку з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Помните, что каждая культура какой бы малой она не была, имеет что предложить миру, но нет такой культуры которая бы имела монополию на все аспе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 Всегда помните, что ни какие научные данные не доказывают превосходство одной этнической группы над дру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79280" y="2997000"/>
            <a:ext cx="38181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национального превосходства также рассматривается как фактор, способствующий всплескам агрессии и экстремизма, наряду с тремя культурными предпосылками, ведущими к развитию агрессии против других нац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40000" y="3068640"/>
            <a:ext cx="46796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озникновение идеологии антагонизма, вызванное изначальным разделением «своя», «чужая» группа, что затем приводит к тому, что внешней группе приписываются крайне негативные, часто основанные на стереотипных представлениях чер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деология национальной безопасности, в которой непрерывная оценка опасности противника и приспособление к ней заменяется безоговорочной целью любой ценой господствовать над н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идение мира в свете питаемых войной ценностей, таких как товарищество, преданность национальная гордость или достойная цел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1" descr="C:\Users\Таня\Pictures\1292073223_061991_7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2924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Users\Таня\Pictures\17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Меры профилактики экстремизма в молодёжной сред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о ст. 2 Федерального закона от 25.07.2002 г. № 114-ФЗ «О противодействии экстремистской деятельности» противодействие (т.е. пресечение и профилактика) экстремистской деятельности основывается на следующих принцип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нание, соблюдение и защита прав и свобод человека и гражданина, а равно законных интересов организа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о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с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ритет обеспечения безопасности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ритет мер, направленных на предупреждение экстремист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трудничество государства с общественными и религиозными объединениями, иными организациями, гражданами в противодействии экстремист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твратимость наказания за осуществление экстремист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Фанаты Зенита отметили побе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4" name="Picture 2" descr="C:\Users\Таня\Pictures\1289946428_zenit_09.jpg"/>
          <p:cNvPicPr/>
          <p:nvPr/>
        </p:nvPicPr>
        <p:blipFill>
          <a:blip r:embed="rId1"/>
          <a:stretch/>
        </p:blipFill>
        <p:spPr>
          <a:xfrm>
            <a:off x="1355760" y="162864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Хоккейные фанаты устроили погром в Ванкувере</a:t>
            </a:r>
            <a:br>
              <a:rPr sz="40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3" descr="C:\Users\Таня\Pictures\vancouvr.jpg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3600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C:\Users\Таня\Pictures\vancouvz.jpg"/>
          <p:cNvPicPr/>
          <p:nvPr/>
        </p:nvPicPr>
        <p:blipFill>
          <a:blip r:embed="rId2"/>
          <a:stretch/>
        </p:blipFill>
        <p:spPr>
          <a:xfrm>
            <a:off x="4427640" y="3357720"/>
            <a:ext cx="4716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В Федеральном законе «О противодействии экстремистской деятельности» даётся следующее определение экстремизма: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1280" y="1484280"/>
            <a:ext cx="8136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экстремистская деятельность: 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) деятельность общественных и религиозных объединений, либо иных организаций, либо редакций средств массовой информации, либо физических лиц по планированию, организации, подготовке и совершению действий, направленных на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9" descr="%d0%a1%d1%82%d0%be%d0%bb%d0%ba%d0%ba%d0%b8%d0%b5%d0%b2"/>
          <p:cNvPicPr/>
          <p:nvPr/>
        </p:nvPicPr>
        <p:blipFill>
          <a:blip r:embed="rId1"/>
          <a:stretch/>
        </p:blipFill>
        <p:spPr>
          <a:xfrm>
            <a:off x="5148360" y="3933720"/>
            <a:ext cx="3755880" cy="2816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Users\Таня\Pictures\11.jpg"/>
          <p:cNvPicPr/>
          <p:nvPr/>
        </p:nvPicPr>
        <p:blipFill>
          <a:blip r:embed="rId2"/>
          <a:stretch/>
        </p:blipFill>
        <p:spPr>
          <a:xfrm>
            <a:off x="900000" y="4292640"/>
            <a:ext cx="35276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C:\Users\Таня\Pictures\5bbdd724-3d89-487c-ac07-0895d6079054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484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413000"/>
            <a:ext cx="8153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насильственное изменение основ конституционного строя и    нарушение целостности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дрыв безопасности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захват или присвоение властных полномоч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незаконных вооруженных формиров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ение террористической деятельности либо публичное  оправдание террориз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озбуждение расовой, национальной или религиозной розни, а  также социальной розни,  связанной с насилием или призывами к  насил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нижение национального достоинств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5:48:59Z</dcterms:created>
  <dc:creator>Таня</dc:creator>
  <dc:description/>
  <dc:language>en-US</dc:language>
  <cp:lastModifiedBy>1234</cp:lastModifiedBy>
  <dcterms:modified xsi:type="dcterms:W3CDTF">2020-12-10T15:14:41Z</dcterms:modified>
  <cp:revision>48</cp:revision>
  <dc:subject/>
  <dc:title>Слайд 1</dc:title>
</cp:coreProperties>
</file>